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0E4-1AAF-412A-8F48-8A5D3902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8E9-2C74-4F58-B2F1-D191C84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2FD-0456-499E-BC38-F952FE96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7CD-5101-41BB-8138-5AB75BA5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3848-6E1D-4EC3-9A1E-B93222A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C0A-DBCE-4EA4-BD69-940FC67E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9900-F8F6-4B80-85D2-AF282CD1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8ACC-C672-494D-AAC4-48CB9A0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66B-BB39-4024-A64B-D081380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B95F-A75B-411A-B4BF-9BB582F7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1E17-9E50-430E-98DA-2397EF2A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0E8-E7D3-428B-963C-3B51455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2465-4660-419A-A154-7E3C55AE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B56-61BC-4DF1-9822-3409E30E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973-1FC1-4F8D-AE68-AD48D3E4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84ED-ADD5-4E06-8CDC-BD26C341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36560" y="16286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80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36560" y="39952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717-26B6-4C32-A0D5-6D294C57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FAE-AE50-4276-BA1D-F4274FA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CF2-21D5-4AE7-B94A-6D1ECEE4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D7B-1932-40F4-B791-323558C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5DB-122E-4784-A6F9-D81FB046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8D4-1833-475C-BB5A-F6F49899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3600" y="39952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C74-BD5D-436F-9675-FF70B5C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092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3600" y="16286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80920" y="39952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FE2-1D1D-4B9C-B988-FF5A30D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0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ABA-C72C-46C1-94AC-ACF3E592BC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 rot="5400000">
            <a:off x="-1998720" y="228600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e1"/>
                </a:solidFill>
                <a:latin typeface="Calibri"/>
              </a:rPr>
              <a:t>UŁAMKI ZWYKŁ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e1"/>
              </a:solidFill>
              <a:latin typeface="Calibri"/>
              <a:ea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17A-2BC3-4C07-908D-3C44DE5FD1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pl.wikipedia.org/wiki/Arabia" TargetMode="External"/><Relationship Id="rId4" Type="http://schemas.openxmlformats.org/officeDocument/2006/relationships/hyperlink" Target="http://pl.wikipedia.org/wiki/Algieria" TargetMode="External"/><Relationship Id="rId5" Type="http://schemas.openxmlformats.org/officeDocument/2006/relationships/hyperlink" Target="http://pl.wikipedia.org/wiki/Bid&#380;aja" TargetMode="External"/><Relationship Id="rId6" Type="http://schemas.openxmlformats.org/officeDocument/2006/relationships/hyperlink" Target="http://pl.wikipedia.org/wiki/Egipt" TargetMode="External"/><Relationship Id="rId7" Type="http://schemas.openxmlformats.org/officeDocument/2006/relationships/hyperlink" Target="http://pl.wikipedia.org/wiki/Syria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ROZWIĄŻ REB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raz 130" descr=""/>
          <p:cNvPicPr/>
          <p:nvPr/>
        </p:nvPicPr>
        <p:blipFill>
          <a:blip r:embed="rId1"/>
          <a:stretch/>
        </p:blipFill>
        <p:spPr>
          <a:xfrm>
            <a:off x="2322360" y="954000"/>
            <a:ext cx="531180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3440" y="126756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25560" y="1986840"/>
            <a:ext cx="65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sześć dziewią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szesnaście trzydzies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czterdzieści osiem sto jedenast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dwadzieścia dwa pięćdziesiątych trzec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TROCHĘ HISTOR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104256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ż w roku 300 p.n.e. w swojej książce Euklides „Elementy Euklidesa” wspomina o używaniu ułamków do obliczeń. W starożytnym Egipcie również posługiwano się ułamkami. Oto niektóre z nich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34" descr=""/>
          <p:cNvPicPr/>
          <p:nvPr/>
        </p:nvPicPr>
        <p:blipFill>
          <a:blip r:embed="rId1"/>
          <a:stretch/>
        </p:blipFill>
        <p:spPr>
          <a:xfrm>
            <a:off x="1916280" y="2038320"/>
            <a:ext cx="53100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35" descr="http://t3.gstatic.com/images?q=tbn:ANd9GcTpJxOaFD4UI0IkJNoHdv8Z2Rvx_HEtkWj5Tm4ValIFJHwt7l40Vw"/>
          <p:cNvPicPr/>
          <p:nvPr/>
        </p:nvPicPr>
        <p:blipFill>
          <a:blip r:embed="rId2"/>
          <a:stretch/>
        </p:blipFill>
        <p:spPr>
          <a:xfrm>
            <a:off x="692280" y="3743280"/>
            <a:ext cx="1638000" cy="221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2000" y="3653280"/>
            <a:ext cx="643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reskę ułamkową wprowadził </a:t>
            </a:r>
            <a:r>
              <a:rPr b="1" lang="pl-PL" sz="1800" spc="-1" strike="noStrike">
                <a:solidFill>
                  <a:srgbClr val="6666ff"/>
                </a:solidFill>
                <a:latin typeface="Arial"/>
              </a:rPr>
              <a:t>Fibonacc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włoski matematyk. Pierwsze lekcje matematyki pobierał od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rabskieg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nauczyciela w mieście Boużia (dziś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algiersk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Bidżaj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. Dużo podróżował najpierw odwiedzając i kształcąc się w takich miejscach jak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Egipt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Syr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, Prowansja, Grecja i Sycylia. W czasie swych podróży po Europie i po krajach Wschodu miał okazję poznać osiągnięcia matematyków arabskich i hinduskich, między innymi poznał dziesiętny system liczbow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UŁAMEK ZWYKŁ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08800" y="1042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łamek to liczba określająca część pewnej cał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8240" y="143244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37" descr=""/>
          <p:cNvPicPr/>
          <p:nvPr/>
        </p:nvPicPr>
        <p:blipFill>
          <a:blip r:embed="rId1"/>
          <a:stretch/>
        </p:blipFill>
        <p:spPr>
          <a:xfrm>
            <a:off x="1062000" y="1859040"/>
            <a:ext cx="31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138" descr=""/>
          <p:cNvPicPr/>
          <p:nvPr/>
        </p:nvPicPr>
        <p:blipFill>
          <a:blip r:embed="rId2"/>
          <a:stretch/>
        </p:blipFill>
        <p:spPr>
          <a:xfrm>
            <a:off x="701640" y="4734000"/>
            <a:ext cx="4054680" cy="137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21640" y="4508640"/>
            <a:ext cx="144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32000" y="3429000"/>
            <a:ext cx="0" cy="11239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3787920"/>
            <a:ext cx="22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zieliłeś się z kolegą czekoladą częstując go 6 kostk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257920"/>
            <a:ext cx="400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"/>
              </a:rPr>
              <a:t>Czyli oddałeś koledze 6 kostek z 15, co możemy zapisać w postaci ułamk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02360" y="2867040"/>
            <a:ext cx="0" cy="11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67360" y="4103640"/>
            <a:ext cx="689040" cy="1303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00960" y="41032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My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ś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l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5960" y="51843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jak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07400" y="5633640"/>
            <a:ext cx="2111040" cy="651960"/>
            <a:chOff x="6107400" y="5633640"/>
            <a:chExt cx="2111040" cy="651960"/>
          </a:xfrm>
        </p:grpSpPr>
        <p:sp>
          <p:nvSpPr>
            <p:cNvPr id="119" name=""/>
            <p:cNvSpPr/>
            <p:nvPr/>
          </p:nvSpPr>
          <p:spPr>
            <a:xfrm>
              <a:off x="6599880" y="5633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ześciu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7400" y="5948280"/>
              <a:ext cx="199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 piętnastu kostek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2720" y="5948640"/>
              <a:ext cx="2025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BUDOWA UŁAM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139" descr=""/>
          <p:cNvPicPr/>
          <p:nvPr/>
        </p:nvPicPr>
        <p:blipFill>
          <a:blip r:embed="rId1"/>
          <a:stretch/>
        </p:blipFill>
        <p:spPr>
          <a:xfrm>
            <a:off x="1916280" y="1409760"/>
            <a:ext cx="6030720" cy="1209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11280" y="32824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anow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est informacja na ile części została podzielona całość, w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cznik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atomiast ile części zabraliś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42000" y="4419720"/>
            <a:ext cx="5811120" cy="1199880"/>
            <a:chOff x="2142000" y="4419720"/>
            <a:chExt cx="5811120" cy="1199880"/>
          </a:xfrm>
        </p:grpSpPr>
        <p:sp>
          <p:nvSpPr>
            <p:cNvPr id="127" name=""/>
            <p:cNvSpPr/>
            <p:nvPr/>
          </p:nvSpPr>
          <p:spPr>
            <a:xfrm>
              <a:off x="2142000" y="485316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U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ł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am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3490560" y="4419720"/>
                  <a:ext cx="612360" cy="11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"/>
            <p:cNvSpPr/>
            <p:nvPr/>
          </p:nvSpPr>
          <p:spPr>
            <a:xfrm>
              <a:off x="4430160" y="4823280"/>
              <a:ext cx="352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czytamy: sze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ść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 pi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ę</a:t>
              </a:r>
              <a:r>
                <a:rPr b="1" lang="en-US" sz="2000" spc="-1" strike="noStrike">
                  <a:solidFill>
                    <a:srgbClr val="6666ff"/>
                  </a:solidFill>
                  <a:latin typeface="Arial"/>
                  <a:ea typeface="Times New Roman"/>
                </a:rPr>
                <a:t>tnasty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WIER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0560" y="18975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Jestem sobie kreską ułamk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Do dzielenia wciąż gotow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Licznik stoi nade m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Mianownik pode m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80560" y="1358280"/>
            <a:ext cx="77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na ile części została podzielona babka piaskowa,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140" descr=""/>
          <p:cNvPicPr/>
          <p:nvPr/>
        </p:nvPicPr>
        <p:blipFill>
          <a:blip r:embed="rId1"/>
          <a:stretch/>
        </p:blipFill>
        <p:spPr>
          <a:xfrm>
            <a:off x="2906640" y="1854360"/>
            <a:ext cx="3759120" cy="1846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1628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1640" y="3967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na ile części podzielono czekoladowe serce, a ile części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141" descr=""/>
          <p:cNvPicPr/>
          <p:nvPr/>
        </p:nvPicPr>
        <p:blipFill>
          <a:blip r:embed="rId2"/>
          <a:stretch/>
        </p:blipFill>
        <p:spPr>
          <a:xfrm>
            <a:off x="3311640" y="4419720"/>
            <a:ext cx="3151080" cy="1708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2360" y="8629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w postaci ułamka, ile części zabr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8400" y="135828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z ilu klocków składa się budowla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2360" y="369180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0560" y="423144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z ilu kloców składa się rysunek, ile kloców zabr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62360" y="6211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……………………        ………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6280" y="1763640"/>
            <a:ext cx="3717720" cy="19274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56" descr=""/>
          <p:cNvPicPr/>
          <p:nvPr/>
        </p:nvPicPr>
        <p:blipFill>
          <a:blip r:embed="rId2"/>
          <a:stretch/>
        </p:blipFill>
        <p:spPr>
          <a:xfrm>
            <a:off x="2411280" y="4778280"/>
            <a:ext cx="49053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1640" y="130572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Podziel figury na równe części i zamalu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392400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92000" y="1876320"/>
          <a:ext cx="821700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876320"/>
                    <a:ext cx="821700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13200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3924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czę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16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66"/>
                </a:solidFill>
                <a:latin typeface="Arial"/>
              </a:rPr>
              <a:t>ĆWICZEN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819000"/>
            <a:ext cx="80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126756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Zapisz ułamki słow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81280" y="1989000"/>
                <a:ext cx="1003320" cy="427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19:53:09Z</dcterms:created>
  <dc:creator>Darek</dc:creator>
  <dc:description/>
  <dc:language>en-US</dc:language>
  <cp:lastModifiedBy>Darek</cp:lastModifiedBy>
  <dcterms:modified xsi:type="dcterms:W3CDTF">2013-08-17T21:28:14Z</dcterms:modified>
  <cp:revision>37</cp:revision>
  <dc:subject/>
  <dc:title>Slajd 1</dc:title>
</cp:coreProperties>
</file>